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E2D-716F-4BF5-835B-DBE35EC5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E16-151E-49AB-B418-C9AA5799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75D-5AF7-449A-ACC3-E78DEA89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F49-7381-41B2-BC9D-F80A6C53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D61F-258D-442F-A4F8-1357CB7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700A-27EA-4A61-88D4-C931AD9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D866-898C-4BF2-8E17-77836C8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A117-AFD4-4C8C-9A38-352981C0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3A9-F8DB-446B-8311-7023FAB8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39D6-893B-45D0-936C-51D7047B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BD9B-C5BA-4293-A346-8A3BDCE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E50-721C-412B-A061-222C00E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38BD-BBF4-4C1B-836D-D4E5D81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CB6A-95D6-4BF6-A760-DBBFDC60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C52D-65FD-499C-9A4B-EE889429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49D-5AB0-4E2D-A22A-EADE4B41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7CC7-3C86-4239-A0B8-BB4D422B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5B2-C9BD-47DE-B566-395B298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B6A-CD09-4154-829C-6FF61EF7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A66-44E7-4794-8663-5A01A0E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6EE-4E0F-42DF-A0B8-86E04CB4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DBC-032C-45C6-BE62-46FDE93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D30-5FE9-4E6B-AE6B-0A0C738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22E-FC07-46FA-9D94-25EBD65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14E6-EF79-47F9-8BAF-2BF7CFAE60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10B8-0F74-44A9-B1F6-504EFCA849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4582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ХН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… 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СК… …   Р…С…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84360" y="105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24000" y="2349360"/>
            <a:ext cx="6094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05092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56000" y="2492280"/>
            <a:ext cx="43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995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500720" y="234936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5651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372360" y="2421000"/>
            <a:ext cx="4111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0920" y="212760"/>
            <a:ext cx="2382840" cy="242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6858000" y="3500280"/>
            <a:ext cx="2016000" cy="26481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2411280" y="18900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триховки,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спользуется для обозначения дета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з металл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 rot="20704200">
            <a:off x="484200" y="4127040"/>
            <a:ext cx="1914480" cy="20764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73080" y="2629080"/>
            <a:ext cx="903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ертикальные плоскости штрихуют вертикальными прямыми,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оризонтальные -прямыми, параллельны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ксонометрическим осям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 наклонные — прямым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араллельными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углу накло­на плоскост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243720" y="4316400"/>
            <a:ext cx="3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875640" y="4394160"/>
            <a:ext cx="2098440" cy="226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 rot="20713200">
            <a:off x="596520" y="4387680"/>
            <a:ext cx="1682640" cy="227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141120" y="836640"/>
            <a:ext cx="1467000" cy="19526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"/>
          <p:cNvSpPr/>
          <p:nvPr/>
        </p:nvSpPr>
        <p:spPr>
          <a:xfrm>
            <a:off x="652320" y="21600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рафировки. </a:t>
            </a:r>
            <a:r>
              <a:rPr b="0" lang="ru-RU" sz="3200" spc="-1" strike="noStrike">
                <a:solidFill>
                  <a:srgbClr val="964ce0"/>
                </a:solidFill>
                <a:latin typeface="Comic Sans MS"/>
              </a:rPr>
              <a:t>Используется для обозначения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не металлических    предме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0760" y="2446200"/>
            <a:ext cx="909324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           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Шраффировка</a:t>
            </a: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– это штриховка сеткой, или двойная штриховка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а многогранниках и поверхностях вращения шраффировку наносят по форме предмета  аналогично штрихов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 rot="1159800">
            <a:off x="6773400" y="4213080"/>
            <a:ext cx="2070360" cy="236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2409840" cy="22539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98360" y="476280"/>
            <a:ext cx="847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тояние между штрихами — 1...3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тупающие ребра предмета оттеня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иболее яркими и толстыми штрих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личная густота штри­хов позволя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биться различных тонов —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светло­ серых до наиболее тем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942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7236000" y="4221000"/>
            <a:ext cx="1733400" cy="2476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62720" y="3181320"/>
            <a:ext cx="858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чечное оттенение  выполняется с помощью точ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увеличением освещения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величиваетс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выполнении оттенения считаю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что на изображаемый предмет свет попада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верху, сзади и слева, поэтому освещенные ч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делают более светлым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а правые и нижние части — затемнен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132000" y="33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755640" y="210960"/>
            <a:ext cx="8064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 можно с помощь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очечного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оттенени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спользуют для обозначения  деталей  с грубыми, шероховатыми поверхностями (литьё, ков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ие технического рисунка начинается с проведения аксонометрических ос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на бумаге в клетку построить угол 12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роводят 5 клеток от точки О вправо и влево и 3 – вниз (или вверх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941560" y="4221000"/>
            <a:ext cx="28814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1404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Тонкими линиями намечают изображение детал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2.Убедившись в правильности рисунка, необходимо обвести его с более сильным нажимом карандаша, чтобы придать рисунку большую выразительность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503280" y="3773520"/>
            <a:ext cx="3960720" cy="146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4950000" y="3789360"/>
            <a:ext cx="3654360" cy="1454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2484360" y="5318280"/>
            <a:ext cx="1984320" cy="135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4"/>
          <a:stretch/>
        </p:blipFill>
        <p:spPr>
          <a:xfrm>
            <a:off x="4572000" y="5318280"/>
            <a:ext cx="20858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7280" y="4437000"/>
            <a:ext cx="792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263680" y="4254480"/>
            <a:ext cx="5140440" cy="24894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1830240" y="4284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Графическое 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-81000" y="776160"/>
            <a:ext cx="9225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Выполнить технический рисунок детал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лученной при удалении частей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 нанесенной размет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Материал, из которого сделана ваша деталь, выберите са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7556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1488960"/>
          <a:ext cx="8229600" cy="537372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698" descr="у1"/>
          <p:cNvPicPr/>
          <p:nvPr/>
        </p:nvPicPr>
        <p:blipFill>
          <a:blip r:embed="rId1"/>
          <a:stretch/>
        </p:blipFill>
        <p:spPr>
          <a:xfrm>
            <a:off x="611280" y="1844640"/>
            <a:ext cx="2400120" cy="1562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699" descr="у2"/>
          <p:cNvPicPr/>
          <p:nvPr/>
        </p:nvPicPr>
        <p:blipFill>
          <a:blip r:embed="rId2"/>
          <a:stretch/>
        </p:blipFill>
        <p:spPr>
          <a:xfrm>
            <a:off x="3348000" y="1700280"/>
            <a:ext cx="2190960" cy="1757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700" descr="у3"/>
          <p:cNvPicPr/>
          <p:nvPr/>
        </p:nvPicPr>
        <p:blipFill>
          <a:blip r:embed="rId3"/>
          <a:stretch/>
        </p:blipFill>
        <p:spPr>
          <a:xfrm>
            <a:off x="539640" y="3789360"/>
            <a:ext cx="25146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Выуч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9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1-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2. Приготовить и принести образец формата А4 и чертежные принадлеж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3. По чертежу детали выполнить технический рису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1498680"/>
          <a:ext cx="8229600" cy="536400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330" descr="д1"/>
          <p:cNvPicPr/>
          <p:nvPr/>
        </p:nvPicPr>
        <p:blipFill>
          <a:blip r:embed="rId1"/>
          <a:stretch/>
        </p:blipFill>
        <p:spPr>
          <a:xfrm>
            <a:off x="684360" y="1700280"/>
            <a:ext cx="2400120" cy="1819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31" descr="д2"/>
          <p:cNvPicPr/>
          <p:nvPr/>
        </p:nvPicPr>
        <p:blipFill>
          <a:blip r:embed="rId2"/>
          <a:stretch/>
        </p:blipFill>
        <p:spPr>
          <a:xfrm>
            <a:off x="3924360" y="1700280"/>
            <a:ext cx="1700280" cy="18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32" descr="д3"/>
          <p:cNvPicPr/>
          <p:nvPr/>
        </p:nvPicPr>
        <p:blipFill>
          <a:blip r:embed="rId3"/>
          <a:stretch/>
        </p:blipFill>
        <p:spPr>
          <a:xfrm>
            <a:off x="611280" y="3716280"/>
            <a:ext cx="2579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176040" y="638280"/>
            <a:ext cx="8858520" cy="63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школьников выполнять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ические рисунки предме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 Развивать пространственное мышл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ения работать карандашом без чертёжных инструмен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  Воспитывать аккурат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ких рисун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556000" y="324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исать четверостишие, раскрывающее то,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что проходили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ительно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прилагательны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глагол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е отношение к изученн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2"/>
          <p:cNvPicPr/>
          <p:nvPr/>
        </p:nvPicPr>
        <p:blipFill>
          <a:blip r:embed="rId1"/>
          <a:stretch/>
        </p:blipFill>
        <p:spPr>
          <a:xfrm>
            <a:off x="971640" y="3789360"/>
            <a:ext cx="70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8 апреля 2012 г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зовите линии чертеж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4" descr="повторение"/>
          <p:cNvPicPr/>
          <p:nvPr/>
        </p:nvPicPr>
        <p:blipFill>
          <a:blip r:embed="rId1"/>
          <a:stretch/>
        </p:blipFill>
        <p:spPr>
          <a:xfrm>
            <a:off x="2340000" y="1484280"/>
            <a:ext cx="4686120" cy="518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581400" y="13651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149760" y="234936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толстая основ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078920" y="41497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ов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73560" y="38606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304600" y="42210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волнист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88800" y="404640"/>
            <a:ext cx="83534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вторение теоретическог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атериала по теме: “Проецирование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. Объясн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. Графическая рабо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.Закрепление, обобщение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дведение итогов уро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. 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1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82560" y="3636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тес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454040" y="773280"/>
            <a:ext cx="19195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 А,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148360" y="542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435640" y="1035000"/>
            <a:ext cx="1873080" cy="62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692360" y="5605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кроссвор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953720" y="1413000"/>
            <a:ext cx="410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  проекц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2  Фр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  изомет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4  гориз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5  толст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33480"/>
            <a:ext cx="68421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768920" y="4437000"/>
            <a:ext cx="4130640" cy="210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284040" y="4876920"/>
            <a:ext cx="2670120" cy="1757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5780160" y="1851120"/>
            <a:ext cx="3119400" cy="223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\Рабочий стол\журавушка 2012-13\т4.jpg"/>
          <p:cNvPicPr/>
          <p:nvPr/>
        </p:nvPicPr>
        <p:blipFill>
          <a:blip r:embed="rId4"/>
          <a:stretch/>
        </p:blipFill>
        <p:spPr>
          <a:xfrm>
            <a:off x="108000" y="1855800"/>
            <a:ext cx="2844720" cy="242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2952720" y="4149720"/>
            <a:ext cx="2097000" cy="22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3116160" y="2111400"/>
            <a:ext cx="2540160" cy="1716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468360" y="8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уется в архитектуре, строительств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 искусстве, в интерьере, в  машиностроительном черч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24000" y="2243160"/>
            <a:ext cx="925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  <a:ea typeface="Aharoni"/>
              </a:rPr>
              <a:t>Технический рисуно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haroni"/>
              </a:rPr>
              <a:t> – это изображение, выполненное от руки по правилам аксонометрических проекций с соблюдением пропорций на глаз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Без имени-7"/>
          <p:cNvPicPr/>
          <p:nvPr/>
        </p:nvPicPr>
        <p:blipFill>
          <a:blip r:embed="rId1"/>
          <a:stretch/>
        </p:blipFill>
        <p:spPr>
          <a:xfrm>
            <a:off x="0" y="115920"/>
            <a:ext cx="2448000" cy="212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2665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9680" y="549360"/>
            <a:ext cx="875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сонометрические изображен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ные без примене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тежных инструментов, от ру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хническими рисункам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­ких рисунк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следуется цель быст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­глядно показать на бумаге предмет или даже группу предметов в цел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ения формы, уяснения взаимо­действия и принципа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58:19Z</dcterms:created>
  <dc:creator>Ученик</dc:creator>
  <dc:description/>
  <dc:language>en-US</dc:language>
  <cp:lastModifiedBy>Светлана</cp:lastModifiedBy>
  <dcterms:modified xsi:type="dcterms:W3CDTF">2013-03-20T18:39:12Z</dcterms:modified>
  <cp:revision>38</cp:revision>
  <dc:subject/>
  <dc:title>ТЕХНИЧЕСКИЙ РИСУНОК</dc:title>
</cp:coreProperties>
</file>